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75964"/>
        <c:axId val="5727845"/>
      </c:barChart>
      <c:catAx>
        <c:axId val="61675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7845"/>
        <c:crosses val="autoZero"/>
        <c:auto val="1"/>
        <c:lblAlgn val="ctr"/>
        <c:lblOffset val="100"/>
        <c:noMultiLvlLbl val="0"/>
      </c:catAx>
      <c:valAx>
        <c:axId val="5727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75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E2B-E84C-4458-BEA1-3D11319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0B3-701D-47F7-A3FC-81BEC52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AFB-4BA6-4F8C-9328-A7B54E87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D3F-6D6E-4A95-8597-8106FBC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F69-E5FE-404E-86D9-47D6398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5C8-FE5B-4360-905D-7EAC10E6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200-070B-4397-83BC-8D7DFC8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72E-8D0B-4EEF-BD8C-4458FE1D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CA0-4B63-4F36-B421-8513F5DF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87F-BCB2-41CC-917B-BD844B4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DD6-BC52-4B5F-8754-0A443499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9B7-1929-45A5-A259-8618753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6227-E63B-491D-8889-0E43FD86C1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