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63131"/>
        <c:axId val="64807314"/>
      </c:barChart>
      <c:catAx>
        <c:axId val="36863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7314"/>
        <c:crosses val="autoZero"/>
        <c:auto val="1"/>
        <c:lblAlgn val="ctr"/>
        <c:lblOffset val="100"/>
        <c:noMultiLvlLbl val="0"/>
      </c:catAx>
      <c:valAx>
        <c:axId val="64807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3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27E-BF50-4DCE-A888-44366E6F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8DD-A6B2-4C5D-A9B7-8E0D81C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EE4-2691-4095-9F20-2E3957FF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07A-4034-40A9-8DDD-48D0F6AE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8CB-CB6B-4937-BBEB-9AB9002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441-C0B8-47BB-9464-EA05EBF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CD1-9551-481F-B3A6-1C7F4F3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91D-26DE-4DC1-AEEC-BD27184B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45A-3023-40DB-B76C-793044D3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168-EFA1-4189-BF5D-CA771DF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EB5-3508-405C-9654-186921A0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A90-5059-4BD2-A385-9DF718F0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E32DB-F707-427C-9AB1-52A0044312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