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75444"/>
        <c:axId val="71837359"/>
      </c:barChart>
      <c:catAx>
        <c:axId val="39675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37359"/>
        <c:crosses val="autoZero"/>
        <c:auto val="1"/>
        <c:lblAlgn val="ctr"/>
        <c:lblOffset val="100"/>
        <c:noMultiLvlLbl val="0"/>
      </c:catAx>
      <c:valAx>
        <c:axId val="71837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75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47A-2E0D-4AC3-8685-C6511B1D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1A5-8595-4E27-8806-BDEE01A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ACA-EF11-41AB-838C-D53C09C5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FA0-BA27-4E69-A2C9-7E306548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FFA-E493-44F0-B4C3-1B1AF109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ADD-E6DB-4E37-AA80-12DABB04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C73-A9D1-4A77-909E-9F8F371D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F09-10D4-4220-A5C5-9C2DAB44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1EC-1ABD-419D-80BD-2F71492D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E6A-63DA-4B54-BAA2-19204AD8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F45-8BF6-4FBE-BCEF-A381BC05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EF5-3A0C-4F77-952E-2844B16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FDF62-0D2B-4AA1-A7D7-3CE6D717D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