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26234"/>
        <c:axId val="48366217"/>
      </c:barChart>
      <c:catAx>
        <c:axId val="67626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66217"/>
        <c:crosses val="autoZero"/>
        <c:auto val="1"/>
        <c:lblAlgn val="ctr"/>
        <c:lblOffset val="100"/>
        <c:noMultiLvlLbl val="0"/>
      </c:catAx>
      <c:valAx>
        <c:axId val="48366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26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29D-C025-4180-B1FD-DC6234BF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FB9-44BF-4D47-94E8-8EE0A4B6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FAE-BE4C-4D44-A954-AC501207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AFA-6FFA-451F-AFC1-04BB2D65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5B6-2BB4-45D1-9566-271FB21A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6D9-48F6-48A8-BF02-755B00AC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B8F-D6BE-487E-8AC6-2EB7A056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3BE-5313-4013-90D5-4E1948A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ECA-D62E-45B1-B32B-A891D69A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CDA-7B28-4DE9-8967-23D8D9C9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5F2-75AB-4ACD-B9CE-352B84B6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6AC-EBFA-412A-AB7A-0ACA38E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5FF28-E24F-4CCA-B1D6-2C78673CED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