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32530"/>
        <c:axId val="36682984"/>
      </c:barChart>
      <c:catAx>
        <c:axId val="16632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2984"/>
        <c:crosses val="autoZero"/>
        <c:auto val="1"/>
        <c:lblAlgn val="ctr"/>
        <c:lblOffset val="100"/>
        <c:noMultiLvlLbl val="0"/>
      </c:catAx>
      <c:valAx>
        <c:axId val="36682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32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75B-DBB0-425F-AF89-95EB0958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87D-20DA-49C1-AF92-CC61DA8C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840-F550-4815-AB8A-B762B963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CBB-4D30-4D33-A487-31707607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1D9-553E-4CE3-9B15-721D2AAB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E8E-0F9E-4AC2-80F9-2CDFC53A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4DF-636C-4B38-ADF9-8B381B24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35E-5129-446C-97F8-5DE63D12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C55-47EF-43CB-99EE-E1199799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45B-89A8-4BED-BCD1-7529ECCF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44B-2365-415D-B499-B7F1336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F50-B682-465F-B387-2F780F5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27419-7FE1-4CE7-9D53-59188FAB0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