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53777"/>
        <c:axId val="11184800"/>
      </c:barChart>
      <c:catAx>
        <c:axId val="35853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84800"/>
        <c:crosses val="autoZero"/>
        <c:auto val="1"/>
        <c:lblAlgn val="ctr"/>
        <c:lblOffset val="100"/>
        <c:noMultiLvlLbl val="0"/>
      </c:catAx>
      <c:valAx>
        <c:axId val="11184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53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873-9A9B-4B8F-AF94-93DACFAE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66D-6080-4BBC-84E1-CD6F38EE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03C-F590-4541-A45D-63B28481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C15-3EAF-4A31-84AF-6C9922BE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8A2-E5B5-4D3E-A5C5-227410C0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2BCC-73B7-49F6-9A18-F3C6DC97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E4D-871D-4CE7-AA58-2F5D68C0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E19-17C6-4B76-B51D-926913CD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46F-8121-4216-A30E-29B8AD34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5CC-F6DF-4A04-9EBB-267DF1E5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ECC-9CFF-44DE-9748-4ED228E4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653-0FFE-4684-B6D4-075CCA25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C4A32-1651-4FEE-8411-019402D6C1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