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676328"/>
        <c:axId val="48521249"/>
      </c:barChart>
      <c:catAx>
        <c:axId val="896763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21249"/>
        <c:crosses val="autoZero"/>
        <c:auto val="1"/>
        <c:lblAlgn val="ctr"/>
        <c:lblOffset val="100"/>
        <c:noMultiLvlLbl val="0"/>
      </c:catAx>
      <c:valAx>
        <c:axId val="485212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6763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EBB3-2A19-41B0-A3ED-46A10BE3F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97F2-568D-46CE-8FEF-DB726232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AAB1-236B-4E77-A906-EDD95F2BC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BF85-43C2-4B76-8E44-D1B9FF025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8CD0-EE7C-4C49-B966-E1CBBE0D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1E09-306D-4825-98C9-B1EB4CC1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0F7F-EBB4-479C-A36C-F77B1833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8627-F8FF-4468-A377-C56B100A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AD96-C87B-4DDD-B17C-41E3D6B8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C9CF-4B39-4CBF-84EF-28C08768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7019-2698-4BD3-9178-70F79C97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49B8-C5ED-4106-96EE-26E2DDE7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765455-06A3-4ED0-A78E-D0B2EBADFA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