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83990"/>
        <c:axId val="93039932"/>
      </c:barChart>
      <c:catAx>
        <c:axId val="578839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39932"/>
        <c:crosses val="autoZero"/>
        <c:auto val="1"/>
        <c:lblAlgn val="ctr"/>
        <c:lblOffset val="100"/>
        <c:noMultiLvlLbl val="0"/>
      </c:catAx>
      <c:valAx>
        <c:axId val="930399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839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39AC-FB2E-476E-BA15-280DDDD9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62B-7A8B-4115-B4E8-F0948FBF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A672-AD82-43DC-B0B1-C0DFAF04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4E2-1B5C-4783-A844-A4C07C5E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A038-9897-4D4A-9552-8F2ADC48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136-69C0-426A-B692-EDB8FEFB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8344-5510-4E04-9E3C-F8E63BF5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22D-E571-4B56-AA90-B9D3692A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5656-0FA5-400A-8691-5BDE91C4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19A-76C4-4D36-80C0-38248408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8082-9DE2-49C3-BFF8-3665D2D1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50D-C413-4647-82D8-3FB2B8FE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4E622-4585-4265-9964-06DED23D8A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